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469-9540-4DE4-A89F-B527A123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207-C196-410E-8B2D-F5A7CE5C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523-915B-48B1-84C4-36792B23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F5B-C8F2-40D3-BB62-77893B96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D60-AC82-4075-BE57-DEA47C00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677-0F81-4134-987F-5CD68D94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E3F-E0AD-453A-8BA0-013DBCEF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F37-413D-45EB-8B72-A3CEC078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FD4-3B70-4877-902E-7602AFA9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2B7-40A9-440B-ABCD-92110231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010-E7E3-4876-8282-3DA6D93C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68A-19C4-42BC-BC70-35D980A3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74DD-D079-4969-B9C6-F8C0ADB97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13.xml"/><Relationship Id="rId4" Type="http://schemas.openxmlformats.org/officeDocument/2006/relationships/slide" Target="slide28.xml"/><Relationship Id="rId5" Type="http://schemas.openxmlformats.org/officeDocument/2006/relationships/slide" Target="slide2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30.xml"/><Relationship Id="rId9" Type="http://schemas.openxmlformats.org/officeDocument/2006/relationships/slide" Target="slide24.xml"/><Relationship Id="rId10" Type="http://schemas.openxmlformats.org/officeDocument/2006/relationships/slide" Target="slide7.xml"/><Relationship Id="rId11" Type="http://schemas.openxmlformats.org/officeDocument/2006/relationships/slide" Target="slide17.xml"/><Relationship Id="rId12" Type="http://schemas.openxmlformats.org/officeDocument/2006/relationships/slide" Target="slide32.xml"/><Relationship Id="rId13" Type="http://schemas.openxmlformats.org/officeDocument/2006/relationships/slide" Target="slide25.xml"/><Relationship Id="rId14" Type="http://schemas.openxmlformats.org/officeDocument/2006/relationships/slide" Target="slide9.xml"/><Relationship Id="rId15" Type="http://schemas.openxmlformats.org/officeDocument/2006/relationships/slide" Target="slide19.xml"/><Relationship Id="rId16" Type="http://schemas.openxmlformats.org/officeDocument/2006/relationships/slide" Target="slide34.xml"/><Relationship Id="rId17" Type="http://schemas.openxmlformats.org/officeDocument/2006/relationships/slide" Target="slide26.xml"/><Relationship Id="rId18" Type="http://schemas.openxmlformats.org/officeDocument/2006/relationships/slide" Target="slide11.xml"/><Relationship Id="rId19" Type="http://schemas.openxmlformats.org/officeDocument/2006/relationships/slide" Target="slide21.xml"/><Relationship Id="rId20" Type="http://schemas.openxmlformats.org/officeDocument/2006/relationships/slide" Target="slide36.xml"/><Relationship Id="rId21" Type="http://schemas.openxmlformats.org/officeDocument/2006/relationships/slide" Target="slide27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609480"/>
            <a:ext cx="6858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Let’s Play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743200"/>
            <a:ext cx="7162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Jeopardy!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28600"/>
            <a:ext cx="8381880" cy="71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900" spc="-1" strike="noStrike">
                <a:solidFill>
                  <a:srgbClr val="000000"/>
                </a:solidFill>
                <a:latin typeface="Comic Sans MS"/>
              </a:rPr>
              <a:t>wonder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1219320"/>
            <a:ext cx="7391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What is the root word of shaking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1219320"/>
            <a:ext cx="739152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000000"/>
                </a:solidFill>
                <a:latin typeface="Comic Sans MS"/>
              </a:rPr>
              <a:t>shake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2209680"/>
            <a:ext cx="7696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Comic Sans MS"/>
              </a:rPr>
              <a:t>look + e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1447920"/>
            <a:ext cx="75438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looked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09680"/>
            <a:ext cx="8305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Comic Sans MS"/>
              </a:rPr>
              <a:t>bake + e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1447920"/>
            <a:ext cx="7543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baked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2209680"/>
            <a:ext cx="7696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Comic Sans MS"/>
              </a:rPr>
              <a:t>love + e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1447920"/>
            <a:ext cx="7543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loved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209680"/>
            <a:ext cx="79246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mic Sans MS"/>
              </a:rPr>
              <a:t>snap + ed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62120" y="685800"/>
          <a:ext cx="7696080" cy="5389560"/>
        </p:xfrm>
        <a:graphic>
          <a:graphicData uri="http://schemas.openxmlformats.org/drawingml/2006/table">
            <a:tbl>
              <a:tblPr/>
              <a:tblGrid>
                <a:gridCol w="1539720"/>
                <a:gridCol w="1538280"/>
                <a:gridCol w="1540080"/>
                <a:gridCol w="1538280"/>
                <a:gridCol w="1539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ot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ding 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ding 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 or e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wel Sou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9a5"/>
                    </a:solidFill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0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5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8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9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2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2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447920"/>
            <a:ext cx="86104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snapped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2133720"/>
            <a:ext cx="8305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Comic Sans MS"/>
              </a:rPr>
              <a:t>hope + e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447920"/>
            <a:ext cx="7543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hoped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914400"/>
            <a:ext cx="723888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Name a word with the same  vowel sound as 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Comic Sans MS"/>
              </a:rPr>
              <a:t>juic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914400"/>
            <a:ext cx="7238880" cy="85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ame a word with the same vowel sound as 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stood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391520" y="48769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914400"/>
            <a:ext cx="72388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086600" y="48769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14400" y="1066680"/>
            <a:ext cx="754380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ame as word with the same vowel sound as 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mood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914400"/>
            <a:ext cx="7238880" cy="57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ame a word with the same vowel sound as 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Comic Sans MS"/>
              </a:rPr>
              <a:t>shou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400" y="914400"/>
            <a:ext cx="7238880" cy="57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ame a word with the same vowel sound as i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Comic Sans MS"/>
              </a:rPr>
              <a:t>boas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1905120"/>
            <a:ext cx="8153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mic Sans MS"/>
              </a:rPr>
              <a:t>cook + 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1905120"/>
            <a:ext cx="81536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coo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1219320"/>
            <a:ext cx="7391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What is the root word of grinning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1905120"/>
            <a:ext cx="8153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mic Sans MS"/>
              </a:rPr>
              <a:t>go + 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990720"/>
            <a:ext cx="8153280" cy="70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000000"/>
                </a:solidFill>
                <a:latin typeface="Comic Sans MS"/>
              </a:rPr>
              <a:t>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1905120"/>
            <a:ext cx="8153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mic Sans MS"/>
              </a:rPr>
              <a:t>slide + 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219320"/>
            <a:ext cx="815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000000"/>
                </a:solidFill>
                <a:latin typeface="Comic Sans MS"/>
              </a:rPr>
              <a:t>sli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1905120"/>
            <a:ext cx="8153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mic Sans MS"/>
              </a:rPr>
              <a:t>hum + 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1905120"/>
            <a:ext cx="81536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hum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905120"/>
            <a:ext cx="8153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mic Sans MS"/>
              </a:rPr>
              <a:t>dive+ 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990720"/>
            <a:ext cx="815364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000000"/>
                </a:solidFill>
                <a:latin typeface="Comic Sans MS"/>
              </a:rPr>
              <a:t>div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4479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More than one wi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1219320"/>
            <a:ext cx="70866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wishes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1219320"/>
            <a:ext cx="739152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900" spc="-1" strike="noStrike">
                <a:solidFill>
                  <a:srgbClr val="000000"/>
                </a:solidFill>
                <a:latin typeface="Comic Sans MS"/>
              </a:rPr>
              <a:t>grin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4479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More than one bo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1219320"/>
            <a:ext cx="7086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boats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4479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More than one pea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1219320"/>
            <a:ext cx="85345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peaches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4479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More than one fo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1219320"/>
            <a:ext cx="7086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foxes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4479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More than one mat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121932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matches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219320"/>
            <a:ext cx="7391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What is the root word of hoping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1219320"/>
            <a:ext cx="7391520" cy="84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900" spc="-1" strike="noStrike">
                <a:solidFill>
                  <a:srgbClr val="000000"/>
                </a:solidFill>
                <a:latin typeface="Comic Sans MS"/>
              </a:rPr>
              <a:t>hope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1219320"/>
            <a:ext cx="7391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What is the root word of pushes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1219320"/>
            <a:ext cx="739152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900" spc="-1" strike="noStrike">
                <a:solidFill>
                  <a:srgbClr val="000000"/>
                </a:solidFill>
                <a:latin typeface="Comic Sans MS"/>
              </a:rPr>
              <a:t>push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1219320"/>
            <a:ext cx="7391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What is the root word of wonderful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2:14:13Z</dcterms:created>
  <dc:creator>Cathie Metheny</dc:creator>
  <dc:description/>
  <dc:language>en-US</dc:language>
  <cp:lastModifiedBy>lbrannan</cp:lastModifiedBy>
  <dcterms:modified xsi:type="dcterms:W3CDTF">2009-05-19T13:08:20Z</dcterms:modified>
  <cp:revision>10</cp:revision>
  <dc:subject/>
  <dc:title>Slide 1</dc:title>
</cp:coreProperties>
</file>